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F11A-4927-4753-97D0-D056FE7D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242D-2481-4BE6-9456-B8B59E22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9BB9-BA9B-4C3E-B2EB-C9814802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D0A-C430-4984-BA29-D9A9A9E0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050560" y="208080"/>
            <a:ext cx="3961080" cy="39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60AB-C691-4E9E-A219-CA3C1735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FF45-8E8A-46A7-84EB-D45AE2D0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83C2-55F1-4C4C-8F76-959E9E03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80AC-89B6-4FAA-BFFA-C2019560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50560" y="208080"/>
            <a:ext cx="3961080" cy="39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4E04-1966-4FA3-ABF9-CFD33C9E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38FB-D92A-4509-BFDA-A48B67C3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46D0-9BBA-40AD-BFB0-5427348D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9EA6-39E6-456E-B393-6CDD5BDE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tandard"/>
          <p:cNvPicPr/>
          <p:nvPr/>
        </p:nvPicPr>
        <p:blipFill>
          <a:blip r:embed="rId2">
            <a:alphaModFix amt="96000"/>
          </a:blip>
          <a:stretch/>
        </p:blipFill>
        <p:spPr>
          <a:xfrm>
            <a:off x="3240" y="0"/>
            <a:ext cx="91375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152280" y="6550200"/>
            <a:ext cx="29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  <a:ea typeface="Arial"/>
              </a:rPr>
              <a:t>Name des Vortragenden</a:t>
            </a:r>
            <a:endParaRPr b="0" lang="en-US" sz="1000" spc="-1" strike="noStrike">
              <a:solidFill>
                <a:srgbClr val="006c31"/>
              </a:solidFill>
              <a:latin typeface="LMU CompatilFact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6019920" y="6550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  <a:ea typeface="Arial"/>
              </a:rPr>
              <a:t>Slide </a:t>
            </a:r>
            <a:fld id="{E3C6DCF2-7D18-4D48-A0D0-AABE73318EE7}" type="slidenum">
              <a:rPr b="0" lang="de-DE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6c31"/>
              </a:solidFill>
              <a:latin typeface="LMU CompatilFac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c31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pic>
        <p:nvPicPr>
          <p:cNvPr id="5" name="Picture 17" descr="madsg_final"/>
          <p:cNvPicPr/>
          <p:nvPr/>
        </p:nvPicPr>
        <p:blipFill>
          <a:blip r:embed="rId3"/>
          <a:stretch/>
        </p:blipFill>
        <p:spPr>
          <a:xfrm>
            <a:off x="6222960" y="539640"/>
            <a:ext cx="1454040" cy="451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3071880" y="6572160"/>
            <a:ext cx="21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  <a:ea typeface="Arial"/>
              </a:rPr>
              <a:t>Datum</a:t>
            </a:r>
            <a:endParaRPr b="0" lang="en-US" sz="1000" spc="-1" strike="noStrike">
              <a:solidFill>
                <a:srgbClr val="006c31"/>
              </a:solidFill>
              <a:latin typeface="LMU CompatilFac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6c31"/>
                </a:solidFill>
                <a:latin typeface="LMU CompatilF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LMU CompatilFact"/>
              </a:rPr>
              <a:t>&lt;date/time&gt;</a:t>
            </a:r>
            <a:endParaRPr b="0" lang="en-US" sz="2000" spc="-1" strike="noStrike">
              <a:solidFill>
                <a:srgbClr val="006c31"/>
              </a:solidFill>
              <a:latin typeface="LMU CompatilFact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6c31"/>
                </a:solidFill>
                <a:latin typeface="LMU CompatilF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LMU CompatilFact"/>
              </a:rPr>
              <a:t>&lt;footer&gt;</a:t>
            </a:r>
            <a:endParaRPr b="0" lang="en-US" sz="2000" spc="-1" strike="noStrike">
              <a:solidFill>
                <a:srgbClr val="006c31"/>
              </a:solidFill>
              <a:latin typeface="LMU CompatilFact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6c31"/>
                </a:solidFill>
                <a:latin typeface="LMU CompatilF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13C4-51F8-44DC-A5BE-8F1A18C04CD6}" type="slidenum">
              <a:rPr b="0" lang="en-US" sz="2000" spc="-1" strike="noStrike">
                <a:solidFill>
                  <a:srgbClr val="006c31"/>
                </a:solidFill>
                <a:latin typeface="LMU CompatilFact"/>
              </a:rPr>
              <a:t>&lt;number&gt;</a:t>
            </a:fld>
            <a:endParaRPr b="0" lang="en-US" sz="2000" spc="-1" strike="noStrike">
              <a:solidFill>
                <a:srgbClr val="006c31"/>
              </a:solidFill>
              <a:latin typeface="LMU CompatilF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3" descr="start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c31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13:10:27Z</dcterms:created>
  <dc:creator/>
  <dc:description/>
  <dc:language>en-US</dc:language>
  <cp:lastModifiedBy>duerrm</cp:lastModifiedBy>
  <dcterms:modified xsi:type="dcterms:W3CDTF">2012-07-10T08:42:31Z</dcterms:modified>
  <cp:revision>381</cp:revision>
  <dc:subject/>
  <dc:title>Mobile Media Mobile Platforms, Technologies and Services</dc:title>
</cp:coreProperties>
</file>