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B9F41-05C7-465D-A1C6-37B9F7EDD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050560" y="208080"/>
            <a:ext cx="3961080" cy="85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6c31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c31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c3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8E974-2A93-45E1-BE57-46CAA411D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050560" y="208080"/>
            <a:ext cx="3961080" cy="85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6c3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c31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c31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c31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c3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5522C-B67D-4827-8648-BC196D154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050560" y="208080"/>
            <a:ext cx="3961080" cy="85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6c31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c31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c31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c31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c31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c31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c3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8A2CE-6895-4F46-A2A5-BF618C57C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050560" y="208080"/>
            <a:ext cx="3961080" cy="85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6c3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c31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050560" y="208080"/>
            <a:ext cx="3961080" cy="85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6c31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c31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050560" y="208080"/>
            <a:ext cx="3961080" cy="85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6c3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c31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c31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0560" y="208080"/>
            <a:ext cx="3961080" cy="85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6c31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050560" y="208080"/>
            <a:ext cx="3961080" cy="39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c31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050560" y="208080"/>
            <a:ext cx="3961080" cy="85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6c31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c31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c31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c31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050560" y="208080"/>
            <a:ext cx="3961080" cy="85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6c3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c3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A4380-0EE0-49E2-890C-541A9996C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050560" y="208080"/>
            <a:ext cx="3961080" cy="85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6c31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c31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c31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c31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050560" y="208080"/>
            <a:ext cx="3961080" cy="85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6c3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c31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c31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c31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050560" y="208080"/>
            <a:ext cx="3961080" cy="85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6c3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c31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c31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050560" y="208080"/>
            <a:ext cx="3961080" cy="85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6c31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c3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c3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c31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c31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050560" y="208080"/>
            <a:ext cx="3961080" cy="85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6c3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c31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c31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c31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c31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c31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c31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050560" y="208080"/>
            <a:ext cx="3961080" cy="85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6c31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c3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33438-829C-4A0A-817D-E4B1248B3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050560" y="208080"/>
            <a:ext cx="3961080" cy="85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6c3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c31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c3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B3C7C-D604-44D5-A09C-DF246EF34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050560" y="208080"/>
            <a:ext cx="3961080" cy="85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6c3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5FCB2-0E09-49A9-A59F-C364C5577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2050560" y="208080"/>
            <a:ext cx="3961080" cy="39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c3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C823D-A018-4241-8108-2B24C85D7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050560" y="208080"/>
            <a:ext cx="3961080" cy="85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6c31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c31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c31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c3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38A8F-B0C8-4276-9EE8-433BE1834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050560" y="208080"/>
            <a:ext cx="3961080" cy="85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6c31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c31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c31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c3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4FF93-7FBF-45A7-A979-4828FEAA7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050560" y="208080"/>
            <a:ext cx="3961080" cy="85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6c31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c31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c31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c3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23417-8E20-4D80-ADD1-0562D4A4E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tandard"/>
          <p:cNvPicPr/>
          <p:nvPr/>
        </p:nvPicPr>
        <p:blipFill>
          <a:blip r:embed="rId2">
            <a:alphaModFix amt="96000"/>
          </a:blip>
          <a:stretch/>
        </p:blipFill>
        <p:spPr>
          <a:xfrm>
            <a:off x="3240" y="0"/>
            <a:ext cx="9137520" cy="6867360"/>
          </a:xfrm>
          <a:prstGeom prst="rect">
            <a:avLst/>
          </a:prstGeom>
          <a:ln w="0">
            <a:noFill/>
          </a:ln>
        </p:spPr>
      </p:pic>
      <p:sp>
        <p:nvSpPr>
          <p:cNvPr id="1" name="Text Box 8"/>
          <p:cNvSpPr/>
          <p:nvPr/>
        </p:nvSpPr>
        <p:spPr>
          <a:xfrm>
            <a:off x="152280" y="6550200"/>
            <a:ext cx="291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808080"/>
                </a:solidFill>
                <a:latin typeface="Arial"/>
                <a:ea typeface="Arial"/>
              </a:rPr>
              <a:t>Name des Vortragenden</a:t>
            </a:r>
            <a:endParaRPr b="0" lang="en-US" sz="1000" spc="-1" strike="noStrike">
              <a:solidFill>
                <a:srgbClr val="006c31"/>
              </a:solidFill>
              <a:latin typeface="LMU CompatilFact"/>
            </a:endParaRPr>
          </a:p>
        </p:txBody>
      </p:sp>
      <p:sp>
        <p:nvSpPr>
          <p:cNvPr id="2" name="Text Box 9"/>
          <p:cNvSpPr/>
          <p:nvPr/>
        </p:nvSpPr>
        <p:spPr>
          <a:xfrm>
            <a:off x="6019920" y="6550200"/>
            <a:ext cx="297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808080"/>
                </a:solidFill>
                <a:latin typeface="Arial"/>
                <a:ea typeface="Arial"/>
              </a:rPr>
              <a:t>Slide </a:t>
            </a:r>
            <a:fld id="{71EBC0A4-BCF5-4E7A-A1A0-88A588DA4FCB}" type="slidenum">
              <a:rPr b="0" lang="de-DE" sz="1000" spc="-1" strike="noStrike">
                <a:solidFill>
                  <a:srgbClr val="80808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6c31"/>
              </a:solidFill>
              <a:latin typeface="LMU CompatilFact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050560" y="208080"/>
            <a:ext cx="3961080" cy="85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c31"/>
                </a:solidFill>
                <a:latin typeface="Arial"/>
              </a:rPr>
              <a:t>Click to edit the title text format</a:t>
            </a:r>
            <a:endParaRPr b="1" lang="en-US" sz="1600" spc="-1" strike="noStrike">
              <a:solidFill>
                <a:srgbClr val="006c3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6c3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c31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6c31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6c3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c31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6c31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6c3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c31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6c31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6c3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c3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6c31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6c3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c3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6c31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c3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6c31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c3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6c31"/>
              </a:solidFill>
              <a:latin typeface="Arial"/>
            </a:endParaRPr>
          </a:p>
        </p:txBody>
      </p:sp>
      <p:pic>
        <p:nvPicPr>
          <p:cNvPr id="5" name="Picture 17" descr="madsg_final"/>
          <p:cNvPicPr/>
          <p:nvPr/>
        </p:nvPicPr>
        <p:blipFill>
          <a:blip r:embed="rId3"/>
          <a:stretch/>
        </p:blipFill>
        <p:spPr>
          <a:xfrm>
            <a:off x="6222960" y="539640"/>
            <a:ext cx="1454040" cy="451080"/>
          </a:xfrm>
          <a:prstGeom prst="rect">
            <a:avLst/>
          </a:prstGeom>
          <a:ln w="0">
            <a:noFill/>
          </a:ln>
        </p:spPr>
      </p:pic>
      <p:sp>
        <p:nvSpPr>
          <p:cNvPr id="6" name="Text Box 8"/>
          <p:cNvSpPr/>
          <p:nvPr/>
        </p:nvSpPr>
        <p:spPr>
          <a:xfrm>
            <a:off x="3071880" y="6572160"/>
            <a:ext cx="214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808080"/>
                </a:solidFill>
                <a:latin typeface="Arial"/>
                <a:ea typeface="Arial"/>
              </a:rPr>
              <a:t>Datum</a:t>
            </a:r>
            <a:endParaRPr b="0" lang="en-US" sz="1000" spc="-1" strike="noStrike">
              <a:solidFill>
                <a:srgbClr val="006c31"/>
              </a:solidFill>
              <a:latin typeface="LMU CompatilFact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006c31"/>
                </a:solidFill>
                <a:latin typeface="LMU CompatilFact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c31"/>
                </a:solidFill>
                <a:latin typeface="LMU CompatilFact"/>
              </a:rPr>
              <a:t>&lt;date/time&gt;</a:t>
            </a:r>
            <a:endParaRPr b="0" lang="en-US" sz="2000" spc="-1" strike="noStrike">
              <a:solidFill>
                <a:srgbClr val="006c31"/>
              </a:solidFill>
              <a:latin typeface="LMU CompatilFact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006c31"/>
                </a:solidFill>
                <a:latin typeface="LMU CompatilFact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c31"/>
                </a:solidFill>
                <a:latin typeface="LMU CompatilFact"/>
              </a:rPr>
              <a:t>&lt;footer&gt;</a:t>
            </a:r>
            <a:endParaRPr b="0" lang="en-US" sz="2000" spc="-1" strike="noStrike">
              <a:solidFill>
                <a:srgbClr val="006c31"/>
              </a:solidFill>
              <a:latin typeface="LMU CompatilFact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006c31"/>
                </a:solidFill>
                <a:latin typeface="LMU CompatilFact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79680-CB7B-4ED4-B273-30D9287E7239}" type="slidenum">
              <a:rPr b="0" lang="en-US" sz="2000" spc="-1" strike="noStrike">
                <a:solidFill>
                  <a:srgbClr val="006c31"/>
                </a:solidFill>
                <a:latin typeface="LMU CompatilFact"/>
              </a:rPr>
              <a:t>&lt;number&gt;</a:t>
            </a:fld>
            <a:endParaRPr b="0" lang="en-US" sz="2000" spc="-1" strike="noStrike">
              <a:solidFill>
                <a:srgbClr val="006c31"/>
              </a:solidFill>
              <a:latin typeface="LMU CompatilFac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3" descr="start"/>
          <p:cNvPicPr/>
          <p:nvPr/>
        </p:nvPicPr>
        <p:blipFill>
          <a:blip r:embed="rId2"/>
          <a:stretch/>
        </p:blipFill>
        <p:spPr>
          <a:xfrm>
            <a:off x="0" y="0"/>
            <a:ext cx="9144000" cy="686916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050560" y="208080"/>
            <a:ext cx="3961080" cy="85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c31"/>
                </a:solidFill>
                <a:latin typeface="Arial"/>
              </a:rPr>
              <a:t>Click to edit the title text format</a:t>
            </a:r>
            <a:endParaRPr b="1" lang="en-US" sz="1600" spc="-1" strike="noStrike">
              <a:solidFill>
                <a:srgbClr val="006c31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6c3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c31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6c31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6c3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c31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6c31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6c3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c31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6c31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6c3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c3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6c31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6c3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c3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6c31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c3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6c31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c3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6c3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050560" y="208080"/>
            <a:ext cx="3961080" cy="85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6c31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c3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04T13:10:27Z</dcterms:created>
  <dc:creator/>
  <dc:description/>
  <dc:language>en-US</dc:language>
  <cp:lastModifiedBy>duerrm</cp:lastModifiedBy>
  <dcterms:modified xsi:type="dcterms:W3CDTF">2012-07-10T08:42:31Z</dcterms:modified>
  <cp:revision>381</cp:revision>
  <dc:subject/>
  <dc:title>Mobile Media Mobile Platforms, Technologies and Services</dc:title>
</cp:coreProperties>
</file>